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096-6535-440F-AE6E-7967A145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77C-0460-4957-AB6F-081BCCA1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30B-B7E5-4C53-9F8C-76AC5329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055-FFE7-476A-8ED3-A82400CA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0FF3-2588-42A9-B126-07D91F71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EB05-EAD1-4D4B-A184-73084112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F087-0713-45E0-82DF-B621FFE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784A-01EE-4056-82EA-E2834EE8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895A-0EE4-4258-9DE5-58EC6CA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16A5-0EE2-403C-862C-AE78CDE0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F199-FC4C-4228-9F2B-6A51C416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22B-7894-4FB4-93D3-DEE61465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E7DF-A168-4419-82CE-3F95ECF6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6E27-747F-4958-B8CC-25661B0C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A35E-84EA-4896-BB8B-5AFD26C1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DC96-D16C-40F6-A334-590713B5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9E58-4FE3-49D1-BC49-A1D7CAD6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84E-455E-452B-8E28-89ED137F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68E-89CD-4FBD-A672-B3E4FEC5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ACA-CA57-4D7B-9701-A1F1BD38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25F-9E72-450D-9677-48763148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FD0-6574-4D0C-AC02-1BF56591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8AB-C662-4ABE-AABD-6DA477D2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819-3B2E-4B4F-A274-7B933FD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70FF-D268-4AA9-8303-7E473F5A38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CC75-9BB6-43CE-B6B6-4002FC6C92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contrast="24000"/>
          </a:blip>
          <a:srcRect l="28014" t="0" r="25299" b="5558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19320" y="45720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 </a:t>
            </a: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天上的小白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95280" y="1828800"/>
            <a:ext cx="6934320" cy="4683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049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拼一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523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qún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5146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dū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67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dù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2767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tú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2057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ū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1148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xù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419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xū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495288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yú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3808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连一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2" t="0" r="9437" b="0"/>
          <a:stretch/>
        </p:blipFill>
        <p:spPr>
          <a:xfrm>
            <a:off x="6858000" y="1600200"/>
            <a:ext cx="1981080" cy="183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70000" cy="1563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08080" cy="1528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962360" cy="1482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57600" y="1752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ún  chu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743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ún  t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3657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ūn  j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uán  xi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3808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连一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9372" t="0" r="9437" b="0"/>
          <a:stretch/>
        </p:blipFill>
        <p:spPr>
          <a:xfrm>
            <a:off x="6858000" y="1600200"/>
            <a:ext cx="1981080" cy="183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70000" cy="1563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08080" cy="1528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962360" cy="1482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657600" y="1752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HPY"/>
              </a:rPr>
              <a:t>lún  chu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2743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ún  t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3657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PY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HPY"/>
              </a:rPr>
              <a:t>jūn  j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HPY"/>
              </a:rPr>
              <a:t>yuán  xi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66520" y="205740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409720" y="3047760"/>
            <a:ext cx="129564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62720" y="2666880"/>
            <a:ext cx="1218960" cy="1219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14600" y="4876920"/>
            <a:ext cx="129528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50000">
              <a:srgbClr val="ddebc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3049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0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读句子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295280"/>
            <a:ext cx="83552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大草原上，姐姐赶着一群  小白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048120"/>
            <a:ext cx="8610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的家乡是个美丽的地方，那里有清清的河水，肥肥的牛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9998" r="1079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2436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099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2286000" cy="2400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492360" y="3284640"/>
            <a:ext cx="2286000" cy="2400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92760" y="83664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321300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252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23623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群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162864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qú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421000"/>
            <a:ext cx="47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84360" y="1557360"/>
            <a:ext cx="439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上一群小白羊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的蹲着有的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白羊啊下来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别在天上着了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河水清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草儿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才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你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2720" y="620640"/>
            <a:ext cx="51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 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天上的小白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55760" y="419040"/>
            <a:ext cx="570096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才     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333360"/>
            <a:ext cx="17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á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27560" y="419040"/>
            <a:ext cx="183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sh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19520"/>
            <a:ext cx="1981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乡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429000"/>
            <a:ext cx="678024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故乡 家乡 梦乡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乡村 老乡 乡间小路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1773360"/>
            <a:ext cx="83343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上一群小白羊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的蹲着有的躺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92360" y="836640"/>
            <a:ext cx="6026040" cy="50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白羊啊下来吧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别在天上着了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河水清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草儿肥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才是你家乡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752480" y="0"/>
            <a:ext cx="6705720" cy="6401880"/>
            <a:chOff x="1752480" y="0"/>
            <a:chExt cx="6705720" cy="6401880"/>
          </a:xfrm>
        </p:grpSpPr>
        <p:sp>
          <p:nvSpPr>
            <p:cNvPr id="107" name=""/>
            <p:cNvSpPr/>
            <p:nvPr/>
          </p:nvSpPr>
          <p:spPr>
            <a:xfrm>
              <a:off x="1752480" y="0"/>
              <a:ext cx="670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2 </a:t>
              </a:r>
              <a:r>
                <a:rPr b="1" lang="zh-CN" sz="5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天上一群小白羊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990720"/>
              <a:ext cx="4495680" cy="54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上一群小白羊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有的蹲着有的躺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白羊啊下来吧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别在天上着了凉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地上河水清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地上草儿肥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地上才是你家乡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2695680" cy="1839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590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u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590920"/>
            <a:ext cx="30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ü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71600" y="228600"/>
            <a:ext cx="2689200" cy="2530440"/>
            <a:chOff x="1371600" y="228600"/>
            <a:chExt cx="2689200" cy="253044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2666880" y="838080"/>
              <a:ext cx="139392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0" t="37969" r="53364" b="0"/>
            <a:stretch/>
          </p:blipFill>
          <p:spPr>
            <a:xfrm>
              <a:off x="1371600" y="380880"/>
              <a:ext cx="533520" cy="19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rcRect l="66315" t="7075" r="0" b="14596"/>
            <a:stretch/>
          </p:blipFill>
          <p:spPr>
            <a:xfrm>
              <a:off x="1981080" y="228600"/>
              <a:ext cx="631800" cy="25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971640" y="4221000"/>
            <a:ext cx="78483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6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ùn    ūn    ǔn   ún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ǚn   ǘn   ǖn </a:t>
            </a:r>
            <a:r>
              <a:rPr b="1" lang="en-US" sz="6000" spc="-1" strike="noStrike">
                <a:solidFill>
                  <a:srgbClr val="0000ff"/>
                </a:solidFill>
                <a:latin typeface="HPY1"/>
              </a:rPr>
              <a:t>  </a:t>
            </a:r>
            <a:r>
              <a:rPr b="1" lang="en-US" sz="6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ǜ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828800" y="914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0880"/>
            <a:ext cx="3352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yūn    yú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yǔn    yù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581280"/>
            <a:ext cx="4114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yuān   yuá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yuǎn  yu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9144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y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0384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yu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44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19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695680" cy="1839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7180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3657600"/>
            <a:ext cx="2924280" cy="2095560"/>
            <a:chOff x="0" y="3657600"/>
            <a:chExt cx="2924280" cy="2095560"/>
          </a:xfrm>
        </p:grpSpPr>
        <p:pic>
          <p:nvPicPr>
            <p:cNvPr id="127" name="球１" descr=""/>
            <p:cNvPicPr/>
            <p:nvPr/>
          </p:nvPicPr>
          <p:blipFill>
            <a:blip r:embed="rId3"/>
            <a:stretch/>
          </p:blipFill>
          <p:spPr>
            <a:xfrm>
              <a:off x="0" y="3657600"/>
              <a:ext cx="209556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篮球" descr=""/>
            <p:cNvPicPr/>
            <p:nvPr/>
          </p:nvPicPr>
          <p:blipFill>
            <a:blip r:embed="rId4"/>
            <a:stretch/>
          </p:blipFill>
          <p:spPr>
            <a:xfrm>
              <a:off x="1523880" y="4343400"/>
              <a:ext cx="1400400" cy="1400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1:47:02Z</dcterms:created>
  <dc:creator/>
  <dc:description/>
  <cp:keywords/>
  <dc:language>en-US</dc:language>
  <cp:lastModifiedBy>微软用户</cp:lastModifiedBy>
  <dcterms:modified xsi:type="dcterms:W3CDTF">2014-02-18T12:09:08Z</dcterms:modified>
  <cp:revision>32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